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DAA-F0A0-493D-94A2-293AC496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122-FD06-4C24-923A-7B6EF9C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5132-860B-4A91-AAD4-3720071E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A1E-6B9D-4DB3-A711-84204A25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4F0-928E-42CD-BFBE-1FEB195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863F-5B1F-4978-8A36-842F9648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1C57-4BAE-4065-8EB7-1B79BDD2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57C2-BA7A-4B23-BEB2-5DC71F71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28C-4148-4233-BC07-0248F282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1BD8-37F5-4B47-AFD7-FABF3933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5BB6-CB05-481A-80EE-B8E6ED31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4C30-2802-4400-AEFB-8FAC578B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40A-D31E-4EBC-8408-F495FE4975A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D:\Users\USUARIO\Pictures\Publiteca\AGOSTO-SEPTIEMBRE\PLANTILLAS\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Users\USUARIO\Pictures\Publiteca\AGOSTO-SEPTIEMBRE\PLANTILLAS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Users\USUARIO\Pictures\Publiteca\AGOSTO-SEPTIEMBRE\PLANTILLA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3 CuadroTexto"/>
          <p:cNvSpPr/>
          <p:nvPr/>
        </p:nvSpPr>
        <p:spPr>
          <a:xfrm>
            <a:off x="2000160" y="785880"/>
            <a:ext cx="542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4000" spc="-1" strike="noStrike">
                <a:solidFill>
                  <a:srgbClr val="000000"/>
                </a:solidFill>
                <a:latin typeface="Arial"/>
              </a:rPr>
              <a:t>CONTRATACIÓN CDMB 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3880" y="2620800"/>
          <a:ext cx="6096240" cy="1617840"/>
        </p:xfrm>
        <a:graphic>
          <a:graphicData uri="http://schemas.openxmlformats.org/drawingml/2006/table">
            <a:tbl>
              <a:tblPr/>
              <a:tblGrid>
                <a:gridCol w="3646440"/>
                <a:gridCol w="2449800"/>
              </a:tblGrid>
              <a:tr h="3225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.843.095.4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9.200.662.62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CONTRATACIÓN 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 11.043.758.084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1143000" y="285840"/>
          <a:ext cx="7515360" cy="5378400"/>
        </p:xfrm>
        <a:graphic>
          <a:graphicData uri="http://schemas.openxmlformats.org/drawingml/2006/table">
            <a:tbl>
              <a:tblPr/>
              <a:tblGrid>
                <a:gridCol w="5786280"/>
                <a:gridCol w="172908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EN LA PLANIFICACIÓN INTEGRAL PARA EL MANEJO Y ATENCIÓN DEL RIESGO DE ORIGEN NATURAL Y ANTRÓPIC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2,980,58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 Y ECONÓMICO A LAS ADMONES MPALES PARA EL CONTROL DE LA EROSIÓN Y EL MANEJO DE LA DEGRAD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52,092,94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TÉCNICO, SEGUIMIENTO Y FORTALECIMIENTO A ADMONES MPALES E IMPLEMENTACIÓN DE POT Y SIGAM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66,2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O Y SEGUIMIENTOS A LA GESTIÓN INTEGRAL DE RESIDUOS SÓLIDOS EN EL ÁREA DE JURISDICCIÓN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34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CIMIENTO, CONSERVACIÓN Y USO SOSTENIBLE DE LA BIODIVERSIDAD EN EL ÁREA DE JURISDICCIÓN DE LA CD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RVAC, INVESTIG Y PROPAGACIÓN FLORA DEL NORORIENTE DE SANTANDER EN EL JARDÍN BOTÁNICO ELOY V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,499,6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LARATORIA DE ÁREAS PROTEGIDAS Y ESTABLECIMIENTO DEL SISTEMA REGIONAL DE ÁREAS PROTEGIDAS JURISDIC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6,308,3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Y EJECUCIÓN DE UN PLAN ESTRATÉGICO DE INVESTIGACIÓN AMBIENTAL REGIONAL         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02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CIÓN AMBIENTAL Y PARTICIPACIÓN SOCIAL PARA LA GESTIÓN AMBIENTAL EN EL ÁREA DE JURISDICCIÓN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,681,20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, SEGUIMIENTO Y CONTROL AMBIENTAL EN LA EJECUCIÓN DE PROYECTOS DE DESARROLLO           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9,427,31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PRODUCTIVO INDUSTRIAL EN IMPLEMENT PRODUC MÁS LIMPIA Y ACCESO A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,564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MENTO Y APOYO AL SECTOR RURAL PARA IMPLEMENTAC PROYECTOS PRODUCTIVOS SOSTENIBLES Y MERCADOS VERD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,308,59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DEL PLAN DE ACCIÓN REGIONAL DE LUCHA CONTRA LA SEQUÍA Y LA DESERTIFICACIÓN Y MANEJO AMBIEN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078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143000" y="285840"/>
          <a:ext cx="7500960" cy="5092560"/>
        </p:xfrm>
        <a:graphic>
          <a:graphicData uri="http://schemas.openxmlformats.org/drawingml/2006/table">
            <a:tbl>
              <a:tblPr/>
              <a:tblGrid>
                <a:gridCol w="6099120"/>
                <a:gridCol w="1401840"/>
              </a:tblGrid>
              <a:tr h="222120"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PROY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E IMPLEMENTACIÓN DE UN PLAN DE ORDENAM Y MANEJO SILVICULTURA URBANA PARA EL MEJORAM DE 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300,0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 Y DESARROLLO DEL PLAN GENERAL DE ORDENACIÓN FORESTAL DEL ÁREA DE JURISDICCIÓN DE LA CDM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,600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ULACIÓN, ADOPCIÓN Y SEGUIMIENTO A PLANES ORDENAM Y MANEJO DE CUENCAS ABASTECEDORAS DE ACUEDUC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37,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DEL SISTEMA DE INFORMACIÓN AMBIENTAL COMO SOPORTE PARA LA GESTIÓN DE LA CDMB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125,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ALECIMIENTO Y COORDINAC INTERINSTITUC DE LOS ACTORES QUE CONFORMAN EL SISTEMA NACIONAL AMBI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2,125,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ÓN Y APOYO AMBIENTAL PARA EL MANEJO DE LAS AGUAS RESIDUALES A LOS MUNICIPIOS DEL ÁREA DE JURISDI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756,3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AC DE MECANISMOS TENDIENTES A REDUCIR LA CONTAMINAC AMBIENTAL GENERADA POR LA MINERÍA EN 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877,1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L RECURSO HÍDRICO, CONTROL DE VERTIMIENTOS Y MONITOREO DE CORRIENTES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1,354,7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ENCIÓN, CONTROL Y MONITOREO DE LA CONTAMINAC ATMOSFÉRICA CON ÉNFASIS EN EL MEJORAM DE LA SALU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119,7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CCIÓN, RECUPERACIÓN, CONSERVACIÓN Y MANEJO DE CUENCAS HIDROGRÁFICAS ABASTECEDORAS DE ACUEDU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7,300,0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LAMENTACIÓN, DISTRIBUCIÓN Y USO EFICIENTE DEL RECURSO HÍDRICO EN EL ÁREA DE JURISDICCIÓN CDMB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,923,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CIÓN Y CONTROL DE LOS RECURSOS FLORA Y FAUNA SILVESTRE EN EL ÁREA DE JURISDICCIÓN DE LA CDMB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,738,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000" rIns="9000" tIns="900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AURACIÓN, CONSERVACIÓN Y USO SOSTENIBLE DE ECOSISTEMAS ESTRATÉGICOS DE PÁRAMOS Y HUMEDALES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</a:t>
                      </a: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,570,1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C:\Users\USUARIO\Desktop\diapositiva4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2 CuadroTexto"/>
          <p:cNvSpPr/>
          <p:nvPr/>
        </p:nvSpPr>
        <p:spPr>
          <a:xfrm>
            <a:off x="785880" y="60008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s-CO" sz="2800" spc="-1" strike="noStrike">
                <a:solidFill>
                  <a:srgbClr val="000000"/>
                </a:solidFill>
                <a:latin typeface="Candara"/>
              </a:rPr>
              <a:t>Oficina de Contra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43000" y="571680"/>
          <a:ext cx="7672320" cy="4655880"/>
        </p:xfrm>
        <a:graphic>
          <a:graphicData uri="http://schemas.openxmlformats.org/drawingml/2006/table">
            <a:tbl>
              <a:tblPr/>
              <a:tblGrid>
                <a:gridCol w="6697800"/>
                <a:gridCol w="974520"/>
              </a:tblGrid>
              <a:tr h="18792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VESTIGACIÓN PARTICIPATIVA A PARTIR DE UN MARCO DE DOCUMENTACIÓN, PLANEACIÓN, DIAGNÓSTICO Y PROPOSICIÓN QUE VAYAN ENCAMINADOS A ESTRUCTURAR UN MODELO DE MEJORAMIENTO DE ASENTAMIENTOS SUBNORMALES EN LAS DIMENSIONES AMBIENTAL, ESPACIAL Y SOCIAL EN TRES (3) REALIDADES QUE SERAN TOMADAS COMO EXPERIMENTO PILO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,850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NAR ESFUERZOS PARA DESARROLLAR UN PROCESO DE INTERVENCIÓN CONJUNTA EN ESCENARIOS DE LA ESTRUCTURA ECOLÓGICA PRINCIPAL URBANA DEL ÁREA METROPOLITANA DE BUCARAMANGA, A PARTIR DE UN MARCO DE DOCUMENTACIÓN, PLANEACIÓN, DIAGNÓSTICO Y EJECUCIÓN QUE VAYAN ENCAMINADOS A PROPICIAR ESPACIOS DE ENCUENTRO COMUNITARIO DONDE SE CONSOLIDE UNA CULTURA AMBIENTAL CIUDADANA DE RESPETO Y PRESERVACIÓN POR EL PATRIMONIO NATU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,045,421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TENIMIENTO DE LOS SISTEMAS DE DRENAJE EXISTENTES EN LOS MUNICIPIOS DE BUCARAMANGA Y FLORIDABLAN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7,421,50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CAMIENTO CON MALLA ESLABONADA Y CERCA DE ALAMBRE EN DIFERENTES SITIOS DEL MUNICIPIO DE BUCARAMANG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262,167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ACTERIZACION Y COMPONENTES BIODIVERSIDAD CON ÉNFASIS EN ESPECIES PROMISORIAS Y RECUPERACION DE LOS CONOCIMIENTOS ANCESTRALES EN USO DE LA BIODIVERSIDAD EN LA SUBCUENA RIO CACHIRÍ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,016,0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UDIO DENOMINADO DELIMITACIÓN Y ACTUALIZACIÓN DEL DMI METROPOLITANO Y FORMULACIÓN DEL PLAN DE MANEJO EN LOS MUNICIPIOS DE BUCARAMANGA, FLORIDABLANCA, GIRÓN Y PIEDECU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0,466,80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ACIÓN DE ESTUDIOS Y DISEÑOS DE PLANES MAESTROS DE ALCANTARILLADO Y PLANTAS DE TRATAMIENTO DE AGUAS RESIDUALES PARA LOS CENTROS POBLADOS DE SANTA CRUZ DE LA COLINA, SAN RAFAEL Y PORTUGAL Y ACTUALIZACION DE LOS ESTUDIOS Y DISEÑOS DE PLANES MAESTROS DE ALCANTARILLADO Y PLANTAS DE TRATAMIENTO DE AGUAS RESIDUALES DEL CENTRO POBLADO DE BERLÍN Y LOS MUNICIPIOS DE CALIFORNIA, RIONEGRO, TONA, LEBRIJA, VETAS, SURATÁ, CHARTA Y MATAN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8,156,39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20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RA DE CUATRO PLATAFORMAS PARA PRECIPITACIÓN DE ORO EN SOLUCIONES CIANURADAS UTILIZANDO ZINC EN POLVO COMO AGENTE PRECIPITA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29,87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5040" rIns="5040" tIns="504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TAR EL SERVICIO DE ESTABLECIMIENTO Y MANEJO DE LA PRODUCCIÓN DE MATERIAL VEGETAL DE LAS ESPECIES ORNAMENTALES Y ESPECIES FORESTALES PROTECTORAS Y PRODUCTORAS EN LOS VIVEROS DE LA CDM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0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,413,85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9:22:23Z</dcterms:created>
  <dc:creator>USUARIO</dc:creator>
  <dc:description/>
  <dc:language>en-US</dc:language>
  <cp:lastModifiedBy>USUARIO</cp:lastModifiedBy>
  <dcterms:modified xsi:type="dcterms:W3CDTF">2010-04-22T23:03:32Z</dcterms:modified>
  <cp:revision>4</cp:revision>
  <dc:subject/>
  <dc:title>Diapositiva 1</dc:title>
</cp:coreProperties>
</file>