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D68-1ED0-4B84-9909-E7CB4C27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613-FD80-4DE6-A50B-9A7913F3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ECD-0B79-47F8-9F53-88D27381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F3AC-9341-4C99-9F58-0DBA0E10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CDE-DAA4-42FE-B31A-C425E746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5A1-76B2-41CE-B95C-1BA8F512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F34-805A-43D5-9A67-6311B915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B54F-1F65-42E8-9F41-479B3524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F19E-01AA-4071-B3E6-48F7824A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F58-95FD-419B-9FD2-9F644F78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2F0-26F9-467A-BF65-3E09369D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9B5-C020-429F-ABF5-68863477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3092-D085-41AA-8A5B-70A9976ED483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3 CuadroTexto"/>
          <p:cNvSpPr/>
          <p:nvPr/>
        </p:nvSpPr>
        <p:spPr>
          <a:xfrm>
            <a:off x="2000160" y="785880"/>
            <a:ext cx="542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Arial"/>
              </a:rPr>
              <a:t>CONTRATACIÓN CDMB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2620800"/>
          <a:ext cx="6096240" cy="1617840"/>
        </p:xfrm>
        <a:graphic>
          <a:graphicData uri="http://schemas.openxmlformats.org/drawingml/2006/table">
            <a:tbl>
              <a:tblPr/>
              <a:tblGrid>
                <a:gridCol w="3646440"/>
                <a:gridCol w="2449800"/>
              </a:tblGrid>
              <a:tr h="3225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.843.095.46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9.200.662.62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NTRATACIÓN 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1.043.758.08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1143000" y="285840"/>
          <a:ext cx="7515360" cy="5378400"/>
        </p:xfrm>
        <a:graphic>
          <a:graphicData uri="http://schemas.openxmlformats.org/drawingml/2006/table">
            <a:tbl>
              <a:tblPr/>
              <a:tblGrid>
                <a:gridCol w="5786280"/>
                <a:gridCol w="1729080"/>
              </a:tblGrid>
              <a:tr h="2221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PROY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EN LA PLANIFICACIÓN INTEGRAL PARA EL MANEJO Y ATENCIÓN DEL RIESGO DE ORIGEN NATURAL Y ANTRÓP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,980,5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TÉCNICO Y ECONÓMICO A LAS ADMONES MPALES PARA EL CONTROL DE LA EROSIÓN Y EL MANEJO DE LA DEGRAD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52,092,94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TÉCNICO, SEGUIMIENTO Y FORTALECIMIENTO A ADMONES MPALES E IMPLEMENTACIÓN DE POT Y SIGAM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866,2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Y SEGUIMIENTOS A LA GESTIÓN INTEGRAL DE RESIDUOS SÓLIDOS EN EL ÁREA DE JURISDICCIÓN DE LA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34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, CONSERVACIÓN Y USO SOSTENIBLE DE LA BIODIVERSIDAD EN EL ÁREA DE JURISDICCIÓN DE LA CD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,016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RVAC, INVESTIG Y PROPAGACIÓN FLORA DEL NORORIENTE DE SANTANDER EN EL JARDÍN BOTÁNICO ELOY VAL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,499,6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LARATORIA DE ÁREAS PROTEGIDAS Y ESTABLECIMIENTO DEL SISTEMA REGIONAL DE ÁREAS PROTEGIDAS JURISDIC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6,308,3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Y EJECUCIÓN DE UN PLAN ESTRATÉGICO DE INVESTIGACIÓN AMBIENTAL REGIONAL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02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CIÓN AMBIENTAL Y PARTICIPACIÓN SOCIAL PARA LA GESTIÓN AMBIENTAL EN EL ÁREA DE JURISDICCIÓN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,681,2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, SEGUIMIENTO Y CONTROL AMBIENTAL EN LA EJECUCIÓN DE PROYECTOS DE DESARROLLO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9,427,31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MENTO Y APOYO AL SECTOR PRODUCTIVO INDUSTRIAL EN IMPLEMENT PRODUC MÁS LIMPIA Y ACCESO A MERCADOS VER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,564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MENTO Y APOYO AL SECTOR RURAL PARA IMPLEMENTAC PROYECTOS PRODUCTIVOS SOSTENIBLES Y MERCADOS VER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308,59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DEL PLAN DE ACCIÓN REGIONAL DE LUCHA CONTRA LA SEQUÍA Y LA DESERTIFICACIÓN Y MANEJO AMBIE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7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143000" y="285840"/>
          <a:ext cx="7500960" cy="5092560"/>
        </p:xfrm>
        <a:graphic>
          <a:graphicData uri="http://schemas.openxmlformats.org/drawingml/2006/table">
            <a:tbl>
              <a:tblPr/>
              <a:tblGrid>
                <a:gridCol w="6099120"/>
                <a:gridCol w="1401840"/>
              </a:tblGrid>
              <a:tr h="2221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PROY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E IMPLEMENTACIÓN DE UN PLAN DE ORDENAM Y MANEJO SILVICULTURA URBANA PARA EL MEJORAM DE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300,0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Y DESARROLLO DEL PLAN GENERAL DE ORDENACIÓN FORESTAL DEL ÁREA DE JURISDICCIÓN DE LA CDM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600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, ADOPCIÓN Y SEGUIMIENTO A PLANES ORDENAM Y MANEJO DE CUENCAS ABASTECEDORAS DE ACUEDUC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737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ALECIMIENTO DEL SISTEMA DE INFORMACIÓN AMBIENTAL COMO SOPORTE PARA LA GESTIÓN DE LA CDMB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125,2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ALECIMIENTO Y COORDINAC INTERINSTITUC DE LOS ACTORES QUE CONFORMAN EL SISTEMA NACIONAL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2,125,7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Y APOYO AMBIENTAL PARA EL MANEJO DE LAS AGUAS RESIDUALES A LOS MUNICIPIOS DEL ÁREA DE JURISDI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,756,3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C DE MECANISMOS TENDIENTES A REDUCIR LA CONTAMINAC AMBIENTAL GENERADA POR LA MINERÍA EN 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,877,1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AMIENTO DEL RECURSO HÍDRICO, CONTROL DE VERTIMIENTOS Y MONITOREO DE CORRIENTES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1,354,7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CIÓN, CONTROL Y MONITOREO DE LA CONTAMINAC ATMOSFÉRICA CON ÉNFASIS EN EL MEJORAM DE LA SALUD PÚBL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,119,7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CIÓN, RECUPERACIÓN, CONSERVACIÓN Y MANEJO DE CUENCAS HIDROGRÁFICAS ABASTECEDORAS DE ACUEDUC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,300,0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LAMENTACIÓN, DISTRIBUCIÓN Y USO EFICIENTE DEL RECURSO HÍDRICO EN EL ÁREA DE JURISDICCIÓN CDMB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923,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CIÓN Y CONTROL DE LOS RECURSOS FLORA Y FAUNA SILVESTRE EN EL ÁREA DE JURISDICCIÓN DE LA CDMB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,738,3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URACIÓN, CONSERVACIÓN Y USO SOSTENIBLE DE ECOSISTEMAS ESTRATÉGICOS DE PÁRAMOS Y HUMEDALES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,570,1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43000" y="571680"/>
          <a:ext cx="7672320" cy="4655880"/>
        </p:xfrm>
        <a:graphic>
          <a:graphicData uri="http://schemas.openxmlformats.org/drawingml/2006/table">
            <a:tbl>
              <a:tblPr/>
              <a:tblGrid>
                <a:gridCol w="6697800"/>
                <a:gridCol w="974520"/>
              </a:tblGrid>
              <a:tr h="187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AR ESFUERZOS PARA DESARROLLAR UN PROCESO DE INVESTIGACIÓN PARTICIPATIVA A PARTIR DE UN MARCO DE DOCUMENTACIÓN, PLANEACIÓN, DIAGNÓSTICO Y PROPOSICIÓN QUE VAYAN ENCAMINADOS A ESTRUCTURAR UN MODELO DE MEJORAMIENTO DE ASENTAMIENTOS SUBNORMALES EN LAS DIMENSIONES AMBIENTAL, ESPACIAL Y SOCIAL EN TRES (3) REALIDADES QUE SERAN TOMADAS COMO EXPERIMENTO PILO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,85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AR ESFUERZOS PARA DESARROLLAR UN PROCESO DE INTERVENCIÓN CONJUNTA EN ESCENARIOS DE LA ESTRUCTURA ECOLÓGICA PRINCIPAL URBANA DEL ÁREA METROPOLITANA DE BUCARAMANGA, A PARTIR DE UN MARCO DE DOCUMENTACIÓN, PLANEACIÓN, DIAGNÓSTICO Y EJECUCIÓN QUE VAYAN ENCAMINADOS A PROPICIAR ESPACIOS DE ENCUENTRO COMUNITARIO DONDE SE CONSOLIDE UNA CULTURA AMBIENTAL CIUDADANA DE RESPETO Y PRESERVACIÓN POR EL PATRIMONIO NATU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,045,4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TENIMIENTO DE LOS SISTEMAS DE DRENAJE EXISTENTES EN LOS MUNICIPIOS DE BUCARAMANGA Y FLORIDABLAN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,421,50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CAMIENTO CON MALLA ESLABONADA Y CERCA DE ALAMBRE EN DIFERENTES SITIOS DEL MUNICIPIO DE BUCARAMAN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262,1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ACTERIZACION Y COMPONENTES BIODIVERSIDAD CON ÉNFASIS EN ESPECIES PROMISORIAS Y RECUPERACION DE LOS CONOCIMIENTOS ANCESTRALES EN USO DE LA BIODIVERSIDAD EN LA SUBCUENA RIO CACHIR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,016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UDIO DENOMINADO DELIMITACIÓN Y ACTUALIZACIÓN DEL DMI METROPOLITANO Y FORMULACIÓN DEL PLAN DE MANEJO EN LOS MUNICIPIOS DE BUCARAMANGA, FLORIDABLANCA, GIRÓN Y PIEDECUES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,466,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CIÓN DE ESTUDIOS Y DISEÑOS DE PLANES MAESTROS DE ALCANTARILLADO Y PLANTAS DE TRATAMIENTO DE AGUAS RESIDUALES PARA LOS CENTROS POBLADOS DE SANTA CRUZ DE LA COLINA, SAN RAFAEL Y PORTUGAL Y ACTUALIZACION DE LOS ESTUDIOS Y DISEÑOS DE PLANES MAESTROS DE ALCANTARILLADO Y PLANTAS DE TRATAMIENTO DE AGUAS RESIDUALES DEL CENTRO POBLADO DE BERLÍN Y LOS MUNICIPIOS DE CALIFORNIA, RIONEGRO, TONA, LEBRIJA, VETAS, SURATÁ, CHARTA Y MATANZ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8,156,39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A DE CUATRO PLATAFORMAS PARA PRECIPITACIÓN DE ORO EN SOLUCIONES CIANURADAS UTILIZANDO ZINC EN POLVO COMO AGENTE PRECIPITA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929,8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TAR EL SERVICIO DE ESTABLECIMIENTO Y MANEJO DE LA PRODUCCIÓN DE MATERIAL VEGETAL DE LAS ESPECIES ORNAMENTALES Y ESPECIES FORESTALES PROTECTORAS Y PRODUCTORAS EN LOS VIVEROS DE LA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,413,85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3:03:32Z</dcterms:modified>
  <cp:revision>4</cp:revision>
  <dc:subject/>
  <dc:title>Diapositiva 1</dc:title>
</cp:coreProperties>
</file>