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AA4-52E0-40AE-81EC-F6EB754D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9963-ECC3-4344-ABD3-1D198544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3FF3-21FB-4AC0-A1CC-A2D6F7CA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9009-14ED-4972-AFC0-C19852CE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607-F827-403A-8912-5DC197A3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7068-5350-4075-9409-5C71EA7B7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C8FB-F959-47BB-9BF9-062FFE04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B3D-055B-4E83-8BAA-56E3F739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D3D6-2BBE-4835-819A-838638EF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2C1-8B03-4328-9084-8584F9B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EEE-A585-4A7F-9342-CA7B41C4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C69-80D1-42B4-B763-D78597A9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A8D2-F31B-486D-B10A-BC0308D298F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convocatoria%20oct%202009.pdf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42960" y="35715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0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6600" spc="-1" strike="noStrike">
                <a:solidFill>
                  <a:srgbClr val="ffffff"/>
                </a:solidFill>
                <a:latin typeface="Calibri"/>
              </a:rPr>
              <a:t>GESTION DEL TALENTO HUMANO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REINDUCCIÓN AL PERSONAL</a:t>
            </a:r>
            <a:br>
              <a:rPr sz="4000"/>
            </a:b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“ Fortalecimiento del Quehacer de la Corporación”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reorienta al personal para integrarlo a la nueva cultura organizacional , en virtud de los cambios y  nuevas disposiciones normativas e institucionales.</a:t>
            </a: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7 Imagen" descr="DSC_0167.JPG"/>
          <p:cNvPicPr/>
          <p:nvPr/>
        </p:nvPicPr>
        <p:blipFill>
          <a:blip r:embed="rId2"/>
          <a:stretch/>
        </p:blipFill>
        <p:spPr>
          <a:xfrm>
            <a:off x="539640" y="2133720"/>
            <a:ext cx="4038840" cy="26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FORMACION Y DESARROLLO DE LAS COMPETENCIAS LABORAL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Se realizaron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diplomad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urs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seminario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conferencias  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400" spc="-1" strike="noStrike">
                <a:solidFill>
                  <a:srgbClr val="000000"/>
                </a:solidFill>
                <a:latin typeface="Calibri"/>
              </a:rPr>
              <a:t>otros eventos de capacitación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en las siguientes temátic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2920" y="1773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1. Alta Gerencia Ambiental Competiti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2. Gestión para el Manejo de Áreas Protegid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3. Sistemas de Gestión de la Calida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4. Procedimiento Sancionatorio Ambient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5. Plan Departamental de Agu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OTRAS TEMÁTIC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290680" y="2422440"/>
            <a:ext cx="4562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s-CO" sz="1800" spc="-1" strike="noStrike">
                <a:solidFill>
                  <a:srgbClr val="000000"/>
                </a:solidFill>
                <a:latin typeface="Arial"/>
              </a:rPr>
              <a:t>.   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Bioé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7.   Aplicación Ley Desarrollo Terri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8.   Código Único Discipli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9.   Evaluación del Desempeño Lab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0. Contratación Esta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1. Retención Docum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12. Encuentros con la Exce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2627280" y="2781360"/>
            <a:ext cx="588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Gracias </a:t>
            </a:r>
            <a:br>
              <a:rPr sz="4800"/>
            </a:br>
            <a:r>
              <a:rPr b="1" lang="es-CO" sz="4800" spc="-1" strike="noStrike">
                <a:solidFill>
                  <a:srgbClr val="000000"/>
                </a:solidFill>
                <a:latin typeface="Arial"/>
              </a:rPr>
              <a:t>por su Aten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4 CuadroTexto"/>
          <p:cNvSpPr/>
          <p:nvPr/>
        </p:nvSpPr>
        <p:spPr>
          <a:xfrm>
            <a:off x="1116000" y="765000"/>
            <a:ext cx="728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FORTALECIMIENTO DEL SIG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REORGANIZACIÓN ADMINISTRATI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cuerdos Consejo Directivo, mayo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Acuerdo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1149.   Nueva Estructura Inte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Facilita la comunicación, la coordinación y la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articulación integral de los procesos del SI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Calibri"/>
              </a:rPr>
              <a:t>Planta de Person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CO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547640" y="2852640"/>
            <a:ext cx="2376720" cy="57636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1763640" y="4221000"/>
            <a:ext cx="2087640" cy="648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Acuerdo 1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CLASIFICACIÓN DE CARGOS  SEGÚN LA NATURALEZA DE LAS FUNCIONES</a:t>
            </a:r>
            <a:r>
              <a:rPr b="0" lang="es-CO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00120" y="1857240"/>
          <a:ext cx="6429600" cy="3475080"/>
        </p:xfrm>
        <a:graphic>
          <a:graphicData uri="http://schemas.openxmlformats.org/drawingml/2006/table">
            <a:tbl>
              <a:tblPr/>
              <a:tblGrid>
                <a:gridCol w="3224160"/>
                <a:gridCol w="320544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VE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ERO DE CARG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IV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SO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NIC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CI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3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611280" y="609300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928800" y="785880"/>
            <a:ext cx="70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600" spc="-1" strike="noStrike">
                <a:solidFill>
                  <a:srgbClr val="000000"/>
                </a:solidFill>
                <a:latin typeface="Calibri"/>
              </a:rPr>
              <a:t>VINCULACIÓN LABORAL DE LOS SERVIDORES CDMB. 2009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os formas de vinculació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1.  Por Concurso de Mérit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4000" spc="-1" strike="noStrike">
                <a:solidFill>
                  <a:srgbClr val="000000"/>
                </a:solidFill>
                <a:latin typeface="Calibri"/>
              </a:rPr>
              <a:t>2.  Por Contratación de Servici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Concurso de Méri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nvocatoria 001 de 2005” Comisión Nacional del Servicio Civil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 2009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conformaron dos listas de elegibles para proveer los siguientes emple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48320" y="1600200"/>
          <a:ext cx="4064040" cy="4525920"/>
        </p:xfrm>
        <a:graphic>
          <a:graphicData uri="http://schemas.openxmlformats.org/drawingml/2006/table">
            <a:tbl>
              <a:tblPr/>
              <a:tblGrid>
                <a:gridCol w="216000"/>
                <a:gridCol w="384804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NOMINACION DEL EMPLE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ESPECIALIZADO 2028 GRADO 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ONAL UNIVERSITARIO 2044 GRADO 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CONTRATOS PRESTACION DE SERVICIO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Durante 2009: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Se realizaron dos convocatorias a través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periódicos locales para vinculación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Contratist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	</a:t>
            </a:r>
            <a:r>
              <a:rPr b="1" lang="es-CO" sz="3200" spc="-1" strike="noStrike" u="sng">
                <a:solidFill>
                  <a:srgbClr val="0000ff"/>
                </a:solidFill>
                <a:uFillTx/>
                <a:latin typeface="Calibri"/>
              </a:rPr>
              <a:t>Mayo de 2009</a:t>
            </a:r>
            <a:r>
              <a:rPr b="1" lang="es-CO" sz="3200" spc="-1" strike="noStrike">
                <a:solidFill>
                  <a:srgbClr val="0000ff"/>
                </a:solidFill>
                <a:latin typeface="Calibri"/>
              </a:rPr>
              <a:t>  y</a:t>
            </a:r>
            <a:r>
              <a:rPr b="1" lang="es-CO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CO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Octubre de 2009. 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on requeridos para desarrollar las actividades que no pueden ser realizadas por el personal de plan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2. Política del Talento Hu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1332000" y="1341360"/>
            <a:ext cx="5761080" cy="40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Se diseñó e inició la implementación de esta polí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O" sz="2000" spc="-1" strike="noStrike">
                <a:solidFill>
                  <a:srgbClr val="000000"/>
                </a:solidFill>
                <a:latin typeface="Arial"/>
              </a:rPr>
              <a:t>Contar con un talento humano competente, innovador, con sentido de compromiso y pertenencia hacia la entidad, afianzado en valores éticos, crecimiento de personal, ejercicio  y manejo eficiente de los recursos públicos, a través de la compensación e incentivos que permitan estimular a los servidores y desarrollar la excelencia laboral</a:t>
            </a:r>
            <a:r>
              <a:rPr b="0" lang="es-CO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132000" y="386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3059280" y="1916280"/>
            <a:ext cx="3600360" cy="649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CuadroTexto"/>
          <p:cNvSpPr/>
          <p:nvPr/>
        </p:nvSpPr>
        <p:spPr>
          <a:xfrm>
            <a:off x="1000080" y="78588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Calibri"/>
              </a:rPr>
              <a:t>PLAN INSTITUCIONAL DE CAPACITA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Se formuló e implementó un plan de capacitación para los servidores, con base 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Calibri"/>
              </a:rPr>
              <a:t>El decreto 1567 de 1998 y la Política de Gestión del Talento Humano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3 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Líneas Estratégicas de Acció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Plan de Rein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Formación y Desarrollo de las Competencias Labor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d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89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2 CuadroTexto"/>
          <p:cNvSpPr/>
          <p:nvPr/>
        </p:nvSpPr>
        <p:spPr>
          <a:xfrm>
            <a:off x="714240" y="6072120"/>
            <a:ext cx="50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Coordinación  Gestión del Talento Hum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CuadroTexto"/>
          <p:cNvSpPr/>
          <p:nvPr/>
        </p:nvSpPr>
        <p:spPr>
          <a:xfrm>
            <a:off x="1116000" y="765000"/>
            <a:ext cx="70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400" spc="-1" strike="noStrike">
                <a:solidFill>
                  <a:srgbClr val="000000"/>
                </a:solidFill>
                <a:latin typeface="Calibri"/>
              </a:rPr>
              <a:t>INDUCCION A SERVIDO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i="1" lang="es-CO" sz="2800" spc="-1" strike="noStrike">
                <a:solidFill>
                  <a:srgbClr val="000000"/>
                </a:solidFill>
                <a:latin typeface="Calibri"/>
              </a:rPr>
              <a:t>Aprender Sobre la CDMB”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O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s-CO" sz="2400" spc="-1" strike="noStrike">
                <a:solidFill>
                  <a:srgbClr val="000000"/>
                </a:solidFill>
                <a:latin typeface="Calibri"/>
              </a:rPr>
              <a:t>Se proporciona a los nuevos servidores, las herramientas  y pautas acerca de la misión visión, funciones, quehacer y  responsabilidades en cada proceso del SIG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12 Marcador de contenido" descr="INDUCCION NOV 27 DE 2009.JPG"/>
          <p:cNvPicPr/>
          <p:nvPr/>
        </p:nvPicPr>
        <p:blipFill>
          <a:blip r:embed="rId2"/>
          <a:stretch/>
        </p:blipFill>
        <p:spPr>
          <a:xfrm>
            <a:off x="4648320" y="2509920"/>
            <a:ext cx="40384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profrh</cp:lastModifiedBy>
  <dcterms:modified xsi:type="dcterms:W3CDTF">2010-04-22T21:37:53Z</dcterms:modified>
  <cp:revision>109</cp:revision>
  <dc:subject/>
  <dc:title>Diapositiva 1</dc:title>
</cp:coreProperties>
</file>