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11E-5BC6-42BB-A257-1B7EAFA0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26B-2DE6-4046-A387-7EC62ED3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D80-40DF-4BAF-9C93-6051D1F1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9AC-FB08-423A-BDB1-2C520387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47C-BA10-49C2-8B45-560F8262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4A0-976E-47D4-8F7F-C157FCD4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386-AF68-409F-A50E-21412363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B5B-DF65-4D5C-A671-31CE0F88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F3A-54F2-491E-A9A2-D94067C6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59C-FCF1-4B3C-B81E-6991F976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F69-3306-4B73-8CFF-B6C36F8E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4E1-B7DE-4D3D-BEA1-B187BD6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7900-A6FF-4BC6-98AF-16D53DDBADD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00"/>
          <p:cNvSpPr txBox="1"/>
          <p:nvPr/>
        </p:nvSpPr>
        <p:spPr>
          <a:xfrm>
            <a:off x="642960" y="352440"/>
            <a:ext cx="44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 Definitiv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071720"/>
          <a:ext cx="3929040" cy="5013000"/>
        </p:xfrm>
        <a:graphic>
          <a:graphicData uri="http://schemas.openxmlformats.org/drawingml/2006/table">
            <a:tbl>
              <a:tblPr/>
              <a:tblGrid>
                <a:gridCol w="2214720"/>
                <a:gridCol w="1000080"/>
                <a:gridCol w="7142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32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41.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0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19.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87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5 Gráfico" descr=""/>
          <p:cNvPicPr/>
          <p:nvPr/>
        </p:nvPicPr>
        <p:blipFill>
          <a:blip r:embed="rId2"/>
          <a:stretch/>
        </p:blipFill>
        <p:spPr>
          <a:xfrm>
            <a:off x="5065560" y="1279440"/>
            <a:ext cx="3797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9"/>
          <p:cNvSpPr txBox="1"/>
          <p:nvPr/>
        </p:nvSpPr>
        <p:spPr>
          <a:xfrm>
            <a:off x="357120" y="379440"/>
            <a:ext cx="42861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lanific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n la gestión territori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77" name="7 Gráfico" descr=""/>
          <p:cNvPicPr/>
          <p:nvPr/>
        </p:nvPicPr>
        <p:blipFill>
          <a:blip r:embed="rId2"/>
          <a:stretch/>
        </p:blipFill>
        <p:spPr>
          <a:xfrm>
            <a:off x="1176480" y="1414440"/>
            <a:ext cx="64371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393840" y="379440"/>
            <a:ext cx="5607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nocimiento, Conservación y Us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Sostenible de los RN y la Biodiversidad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1" name="9 Gráfico" descr=""/>
          <p:cNvPicPr/>
          <p:nvPr/>
        </p:nvPicPr>
        <p:blipFill>
          <a:blip r:embed="rId2"/>
          <a:stretch/>
        </p:blipFill>
        <p:spPr>
          <a:xfrm>
            <a:off x="993600" y="1566720"/>
            <a:ext cx="6656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395280" y="379440"/>
            <a:ext cx="52484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omoción de Procesos Productiv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mpetitivos y Sostenible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5" name="10 Gráfico" descr=""/>
          <p:cNvPicPr/>
          <p:nvPr/>
        </p:nvPicPr>
        <p:blipFill>
          <a:blip r:embed="rId2"/>
          <a:stretch/>
        </p:blipFill>
        <p:spPr>
          <a:xfrm>
            <a:off x="1066680" y="1352520"/>
            <a:ext cx="665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466560" y="379440"/>
            <a:ext cx="46771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vención y Control de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egrad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9" name="11 Gráfico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6869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395280" y="379440"/>
            <a:ext cx="51055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ortalecimiento del SINA para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obernabilidad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93" name="12 Gráfico" descr=""/>
          <p:cNvPicPr/>
          <p:nvPr/>
        </p:nvPicPr>
        <p:blipFill>
          <a:blip r:embed="rId2"/>
          <a:stretch/>
        </p:blipFill>
        <p:spPr>
          <a:xfrm>
            <a:off x="993600" y="1352520"/>
            <a:ext cx="6797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Presupuestal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09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500040" y="1366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09 guardó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546120" y="379440"/>
            <a:ext cx="30258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Ejecución del Presupuesto de Ingresos de la Entidad para la Vigencia Fiscal 2009 ascendió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00.467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58920" y="2571840"/>
          <a:ext cx="6626160" cy="268272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ción por Valor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7.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5.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3.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25.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12.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00.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58" name="1 Gráfico" descr=""/>
          <p:cNvPicPr/>
          <p:nvPr/>
        </p:nvPicPr>
        <p:blipFill>
          <a:blip r:embed="rId2"/>
          <a:stretch/>
        </p:blipFill>
        <p:spPr>
          <a:xfrm>
            <a:off x="920880" y="12063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87360" y="379440"/>
            <a:ext cx="5113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istrib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46200" y="1143000"/>
          <a:ext cx="5113440" cy="1676520"/>
        </p:xfrm>
        <a:graphic>
          <a:graphicData uri="http://schemas.openxmlformats.org/drawingml/2006/table">
            <a:tbl>
              <a:tblPr/>
              <a:tblGrid>
                <a:gridCol w="2233800"/>
                <a:gridCol w="1942920"/>
                <a:gridCol w="936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43.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.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299.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2 Gráfico" descr=""/>
          <p:cNvPicPr/>
          <p:nvPr/>
        </p:nvPicPr>
        <p:blipFill>
          <a:blip r:embed="rId2"/>
          <a:stretch/>
        </p:blipFill>
        <p:spPr>
          <a:xfrm>
            <a:off x="1779480" y="2992320"/>
            <a:ext cx="46576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16080" y="379440"/>
            <a:ext cx="511308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143000"/>
          <a:ext cx="7358040" cy="2055960"/>
        </p:xfrm>
        <a:graphic>
          <a:graphicData uri="http://schemas.openxmlformats.org/drawingml/2006/table">
            <a:tbl>
              <a:tblPr/>
              <a:tblGrid>
                <a:gridCol w="3214800"/>
                <a:gridCol w="2795760"/>
                <a:gridCol w="1347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08.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5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20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82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03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61.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4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7223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0:51Z</dcterms:modified>
  <cp:revision>6</cp:revision>
  <dc:subject/>
  <dc:title>Diapositiva 1</dc:title>
</cp:coreProperties>
</file>