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A7D-074C-4B5F-9FD2-7309F747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FA3-8246-4342-8891-73F71C6B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4CA-27CC-4572-B180-B2E7FE2C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D0C-A2E0-4177-B3C2-A61996CD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72C-A47D-4D17-B56D-B9579C07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C28-BA55-4057-B97A-7EB1DD4F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0D0-5643-4F46-A681-68780C4F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098-0BD1-4ABF-91F7-B9D22A6E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9BB-E64A-4492-AE62-A366B8C5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528-B7E3-4B18-9D07-EB1B5A89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572-7E33-4A63-A737-F8DF5BC5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5D4-4915-4E53-80FE-0B715D8F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49BC-93C4-4970-8488-124852A5E34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onvocatoria%20oct%202009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2960" y="3571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ffffff"/>
                </a:solidFill>
                <a:latin typeface="Calibri"/>
              </a:rPr>
              <a:t>GESTION DEL TALENTO HUMANO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REINDUCCIÓN AL PERSONAL</a:t>
            </a:r>
            <a:br>
              <a:rPr sz="4000"/>
            </a:b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“ Fortalecimiento del Quehacer de la Corporación”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reorienta al personal para integrarlo a la nueva cultura organizacional , en virtud de los cambios y  nuevas disposiciones normativas e institucionales.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7 Imagen" descr="DSC_0167.JPG"/>
          <p:cNvPicPr/>
          <p:nvPr/>
        </p:nvPicPr>
        <p:blipFill>
          <a:blip r:embed="rId2"/>
          <a:stretch/>
        </p:blipFill>
        <p:spPr>
          <a:xfrm>
            <a:off x="539640" y="2133720"/>
            <a:ext cx="403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FORMACION Y DESARROLLO DE LAS COMPETENCIAS LABORA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on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diplomad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urs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seminari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onferencias 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otros eventos de capacitación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las siguientes temát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1. Alta Gerencia Ambiental Competi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2. Gestión para el Manejo de Áreas Protegi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3. Sistemas de Gestión de la Ca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4. Procedimiento Sancionatorio Ambien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5. Plan Departamental de Ag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OTRAS TEMÁT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90680" y="2422440"/>
            <a:ext cx="4562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Bioé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7.   Aplicación Ley Desarrollo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8.   Código Único Discipl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9.   Evaluación del Desempeñ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0. Contratación Est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1. Retención Doc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2. Encuentros con la Exce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627280" y="2781360"/>
            <a:ext cx="58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Gracias </a:t>
            </a: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por su Ate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1116000" y="76500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FORTALECIMIENTO DEL SIG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REORGANIZACIÓN ADMINISTR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cuerdos Consejo Directivo, may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Acuerdo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1149.   Nueva Estructura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Facilita la comunicación, la coordinación y la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rticulación integral de los procesos del SIG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lanta de Pers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547640" y="2852640"/>
            <a:ext cx="237672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1763640" y="4221000"/>
            <a:ext cx="2087640" cy="64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CLASIFICACIÓN DE CARGOS  SEGÚN LA NATURALEZA DE LAS FUNCIONES</a:t>
            </a: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00120" y="1857240"/>
          <a:ext cx="6429600" cy="3475080"/>
        </p:xfrm>
        <a:graphic>
          <a:graphicData uri="http://schemas.openxmlformats.org/drawingml/2006/table">
            <a:tbl>
              <a:tblPr/>
              <a:tblGrid>
                <a:gridCol w="3224160"/>
                <a:gridCol w="32054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O DE CARG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V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S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928800" y="785880"/>
            <a:ext cx="70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VINCULACIÓN LABORAL DE LOS SERVIDORES CDMB. 2009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os formas de vincul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1.  Por Concurso de Méri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2.  Por Contratación de Serv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Concurso de Mér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vocatoria 001 de 2005” Comisión Nacional del Servicio Civil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n 2009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conformaron dos listas de elegibles para proveer los siguientes emple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4064040" cy="4525920"/>
        </p:xfrm>
        <a:graphic>
          <a:graphicData uri="http://schemas.openxmlformats.org/drawingml/2006/table">
            <a:tbl>
              <a:tblPr/>
              <a:tblGrid>
                <a:gridCol w="216000"/>
                <a:gridCol w="3848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NOMINACION DEL EMPLE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ESPECIALIZADO 2028 GRADO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UNIVERSITARIO 2044 GRADO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CONTRATOS PRESTACION DE SERVICIO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urante 2009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 realizaron dos convocatorias a través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eriódicos locales para vinculación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rati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1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Mayo de 2009</a:t>
            </a:r>
            <a:r>
              <a:rPr b="1" lang="es-CO" sz="3200" spc="-1" strike="noStrike">
                <a:solidFill>
                  <a:srgbClr val="0000ff"/>
                </a:solidFill>
                <a:latin typeface="Calibri"/>
              </a:rPr>
              <a:t>  y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ctubre de 2009.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on requeridos para desarrollar las actividades que no pueden ser realizadas por el personal de pl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2. Política del Talent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332000" y="1341360"/>
            <a:ext cx="57610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diseñó e inició la implementación de esta polí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Contar con un talento humano competente, innovador, con sentido de compromiso y pertenencia hacia la entidad, afianzado en valores éticos, crecimiento de personal, ejercicio  y manejo eficiente de los recursos públicos, a través de la compensación e incentivos que permitan estimular a los servidores y desarrollar la excelencia laboral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132000" y="38606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3059280" y="1916280"/>
            <a:ext cx="360036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PLAN INSTITUCIONAL DE CAPACI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formuló e implementó un plan de capacitación para los servidores, con base 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l decreto 1567 de 1998 y la Política de Gestión del Talento Humano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Líneas Estratégicas de Ac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Re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Formación y Desarrollo de las Competencias Labo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116000" y="76500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INDUCCION A SERVI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Aprender Sobre la CDMB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Se proporciona a los nuevos servidores, las herramientas  y pautas acerca de la misión visión, funciones, quehacer y  responsabilidades en cada proceso del SIG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12 Marcador de contenido" descr="INDUCCION NOV 27 DE 2009.JPG"/>
          <p:cNvPicPr/>
          <p:nvPr/>
        </p:nvPicPr>
        <p:blipFill>
          <a:blip r:embed="rId2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profrh</cp:lastModifiedBy>
  <dcterms:modified xsi:type="dcterms:W3CDTF">2010-04-22T21:37:53Z</dcterms:modified>
  <cp:revision>109</cp:revision>
  <dc:subject/>
  <dc:title>Diapositiva 1</dc:title>
</cp:coreProperties>
</file>