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99A-0B42-49D5-94C7-2ADA5E53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9C0-1368-4D2C-8BCE-E2D7CDEB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F5D-898F-4EC0-85CC-76BA0BFE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DAC-724D-4F91-8478-F6E44259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D4D-E328-4EE6-BEBB-C150A688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7B4-B4F2-4F95-A765-815762AC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504-584B-47B8-9685-613001BB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430-2818-48BB-A970-9A2DAA29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54C-2D55-45B0-ADDD-99686890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980-8493-4985-A851-0F873C42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140-3F3D-4F73-8C86-AC670664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F82-5679-402B-8B99-274EF806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4118-868D-4D4A-9800-871F92197FD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básic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10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42960" y="138564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10 guarda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de la Entidad para la Vigencia Fiscal 2010 asciende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99.463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85920" y="2643120"/>
          <a:ext cx="6626160" cy="268308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95.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.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95.6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56.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imien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9.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Ac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99.4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450720"/>
            <a:ext cx="302544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58" name="Object 16"/>
          <p:cNvGraphicFramePr/>
          <p:nvPr/>
        </p:nvGraphicFramePr>
        <p:xfrm>
          <a:off x="1785960" y="1285920"/>
          <a:ext cx="561672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1285920"/>
                    <a:ext cx="561672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"/>
          <p:cNvSpPr/>
          <p:nvPr/>
        </p:nvSpPr>
        <p:spPr>
          <a:xfrm>
            <a:off x="5865840" y="12852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Venta de Activ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22200" y="39380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portes Otras Entidade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393840" y="264096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Otros Ingres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008080" y="1561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Rendimientos Financier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1185840" y="5233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Venta de Bienes y Servici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6946920" y="357768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Sobre tasa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476280" y="423720"/>
            <a:ext cx="30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uncionamient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68360" y="146916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8.235.534 miles distribuidos así:</a:t>
            </a:r>
            <a:r>
              <a:rPr b="0" lang="es-CO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2"/>
          <a:srcRect l="9394" t="5194" r="9370" b="8066"/>
          <a:stretch/>
        </p:blipFill>
        <p:spPr>
          <a:xfrm>
            <a:off x="2143080" y="2071800"/>
            <a:ext cx="5022720" cy="3219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 rot="192000">
            <a:off x="2340000" y="301608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Transferencia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843280" y="42771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Gastos Generale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4788000" y="371988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astos de Personal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143080" y="5357880"/>
            <a:ext cx="535788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distribución porcentual es con base en que Funcionamiento es el 100%.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00"/>
          <p:cNvSpPr txBox="1"/>
          <p:nvPr/>
        </p:nvSpPr>
        <p:spPr>
          <a:xfrm>
            <a:off x="1690560" y="35244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71720" y="1214280"/>
          <a:ext cx="4286160" cy="4286520"/>
        </p:xfrm>
        <a:graphic>
          <a:graphicData uri="http://schemas.openxmlformats.org/drawingml/2006/table">
            <a:tbl>
              <a:tblPr/>
              <a:tblGrid>
                <a:gridCol w="2286000"/>
                <a:gridCol w="1214280"/>
                <a:gridCol w="785880"/>
              </a:tblGrid>
              <a:tr h="50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1.9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52.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1.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6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49.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87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59.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5 Gráfico" descr=""/>
          <p:cNvPicPr/>
          <p:nvPr/>
        </p:nvPicPr>
        <p:blipFill>
          <a:blip r:embed="rId2"/>
          <a:stretch/>
        </p:blipFill>
        <p:spPr>
          <a:xfrm>
            <a:off x="5425920" y="1206360"/>
            <a:ext cx="35100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8:18Z</dcterms:modified>
  <cp:revision>4</cp:revision>
  <dc:subject/>
  <dc:title>Diapositiva 1</dc:title>
</cp:coreProperties>
</file>