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72C-8AEF-4754-8324-6019821B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4838-D76C-4912-AFC1-8258AD5A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3666-EE82-4F6F-A3CF-96D8F7734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418D-F6A3-4322-AD65-4A7A8068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AEB8-6857-4727-B93E-43AB9B72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A997-BB8D-4442-8026-C280F353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0BE8-A9B6-4EFA-950F-5F534E996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E3B5-1CB4-45D5-A476-6F1097B7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156-1F22-4B1E-97A5-B0158F3F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55C9-7129-4E17-9104-91029974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732C-B37D-484C-B595-8136ACB6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6180-6BCC-43DD-AB5F-E81605F1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9DC8-94ED-4449-A5DE-F29ADB4F11A2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00"/>
          <p:cNvSpPr txBox="1"/>
          <p:nvPr/>
        </p:nvSpPr>
        <p:spPr>
          <a:xfrm>
            <a:off x="642960" y="352440"/>
            <a:ext cx="442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supuesto  Definitivo de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versión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000080" y="1071720"/>
          <a:ext cx="3929040" cy="5013000"/>
        </p:xfrm>
        <a:graphic>
          <a:graphicData uri="http://schemas.openxmlformats.org/drawingml/2006/table">
            <a:tbl>
              <a:tblPr/>
              <a:tblGrid>
                <a:gridCol w="2214720"/>
                <a:gridCol w="1000080"/>
                <a:gridCol w="714240"/>
              </a:tblGrid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 [miles de peso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ficación Ambiental en la Gest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32.1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ón Integrada del Recurso Híd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41.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ocimiento, Conservación y Uso Sostenible de los RN y la Biodivers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0.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ción de Procesos Productivos Competitivos y Sosteni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5.2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ención y Control de la Degradación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319.7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talecimiento del SINA para la Gobernabilidad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87.6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vers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56.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5 Gráfico" descr=""/>
          <p:cNvPicPr/>
          <p:nvPr/>
        </p:nvPicPr>
        <p:blipFill>
          <a:blip r:embed="rId2"/>
          <a:stretch/>
        </p:blipFill>
        <p:spPr>
          <a:xfrm>
            <a:off x="5065560" y="1279440"/>
            <a:ext cx="379728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49"/>
          <p:cNvSpPr txBox="1"/>
          <p:nvPr/>
        </p:nvSpPr>
        <p:spPr>
          <a:xfrm>
            <a:off x="357120" y="379440"/>
            <a:ext cx="428616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lanificación Ambient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en la gestión territori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77" name="7 Gráfico" descr=""/>
          <p:cNvPicPr/>
          <p:nvPr/>
        </p:nvPicPr>
        <p:blipFill>
          <a:blip r:embed="rId2"/>
          <a:stretch/>
        </p:blipFill>
        <p:spPr>
          <a:xfrm>
            <a:off x="1176480" y="1414440"/>
            <a:ext cx="64371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12"/>
          <p:cNvSpPr txBox="1"/>
          <p:nvPr/>
        </p:nvSpPr>
        <p:spPr>
          <a:xfrm>
            <a:off x="393840" y="379440"/>
            <a:ext cx="56070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Conocimiento, Conservación y Uso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Sostenible de los RN y la Biodiversidad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81" name="9 Gráfico" descr=""/>
          <p:cNvPicPr/>
          <p:nvPr/>
        </p:nvPicPr>
        <p:blipFill>
          <a:blip r:embed="rId2"/>
          <a:stretch/>
        </p:blipFill>
        <p:spPr>
          <a:xfrm>
            <a:off x="993600" y="1566720"/>
            <a:ext cx="665640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10"/>
          <p:cNvSpPr txBox="1"/>
          <p:nvPr/>
        </p:nvSpPr>
        <p:spPr>
          <a:xfrm>
            <a:off x="395280" y="379440"/>
            <a:ext cx="524844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omoción de Procesos Productiv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Competitivos y Sostenible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85" name="10 Gráfico" descr=""/>
          <p:cNvPicPr/>
          <p:nvPr/>
        </p:nvPicPr>
        <p:blipFill>
          <a:blip r:embed="rId2"/>
          <a:stretch/>
        </p:blipFill>
        <p:spPr>
          <a:xfrm>
            <a:off x="1066680" y="1352520"/>
            <a:ext cx="66564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12"/>
          <p:cNvSpPr txBox="1"/>
          <p:nvPr/>
        </p:nvSpPr>
        <p:spPr>
          <a:xfrm>
            <a:off x="466560" y="379440"/>
            <a:ext cx="467712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Prevención y Control de la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Degradación Ambient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89" name="11 Gráfico" descr=""/>
          <p:cNvPicPr/>
          <p:nvPr/>
        </p:nvPicPr>
        <p:blipFill>
          <a:blip r:embed="rId2"/>
          <a:stretch/>
        </p:blipFill>
        <p:spPr>
          <a:xfrm>
            <a:off x="853920" y="1279440"/>
            <a:ext cx="686916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15"/>
          <p:cNvSpPr txBox="1"/>
          <p:nvPr/>
        </p:nvSpPr>
        <p:spPr>
          <a:xfrm>
            <a:off x="395280" y="379440"/>
            <a:ext cx="510552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Fortalecimiento del SINA para la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Gobernabilidad Ambiental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93" name="12 Gráfico" descr=""/>
          <p:cNvPicPr/>
          <p:nvPr/>
        </p:nvPicPr>
        <p:blipFill>
          <a:blip r:embed="rId2"/>
          <a:stretch/>
        </p:blipFill>
        <p:spPr>
          <a:xfrm>
            <a:off x="993600" y="1352520"/>
            <a:ext cx="67978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6"/>
          <p:cNvSpPr txBox="1"/>
          <p:nvPr/>
        </p:nvSpPr>
        <p:spPr>
          <a:xfrm>
            <a:off x="2571840" y="2571840"/>
            <a:ext cx="421488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GRACIA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Users\USUARIO\Pictures\Publiteca\AGOSTO-SEPTIEMBRE\PLANTILLAS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Users\USUARIO\Pictures\Publiteca\AGOSTO-SEPTIEMBRE\PLANTILLAS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2286000" y="2071800"/>
            <a:ext cx="4857840" cy="15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Ejecución Presupuestal 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2009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500040" y="136692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El Presupuesto de Ingresos y Gastos de la Entidad para la Vigencia Fiscal 2009 guardó concordancia con el Plan Nacional de Desarrollo Ambiental, el Plan de Gestión Ambiental Regional y el Plan de Acción Ajustado 2007-2011 de la Entidad</a:t>
            </a:r>
            <a:r>
              <a:rPr b="0" lang="es-CO" sz="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546120" y="379440"/>
            <a:ext cx="302580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1187280" y="1285200"/>
            <a:ext cx="666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La Ejecución del Presupuesto de Ingresos de la Entidad para la Vigencia Fiscal 2009 ascendió a la su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 Rounded MT Bold"/>
                <a:ea typeface="Times New Roman"/>
              </a:rPr>
              <a:t>$ 33.500.467 miles distribuidos así:</a:t>
            </a:r>
            <a:r>
              <a:rPr b="0" lang="es-CO" sz="2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s-CO" sz="7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258920" y="2571840"/>
          <a:ext cx="6626160" cy="2682720"/>
        </p:xfrm>
        <a:graphic>
          <a:graphicData uri="http://schemas.openxmlformats.org/drawingml/2006/table">
            <a:tbl>
              <a:tblPr/>
              <a:tblGrid>
                <a:gridCol w="3241800"/>
                <a:gridCol w="2303280"/>
                <a:gridCol w="10810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ibución por Valoriz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.0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bre tasa Ambi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977.8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,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nta de Bienes y Servic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5.4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ortes Otras Enti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53.0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25.6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de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12.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INGRESOS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500.4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13"/>
          <p:cNvSpPr txBox="1"/>
          <p:nvPr/>
        </p:nvSpPr>
        <p:spPr>
          <a:xfrm>
            <a:off x="474840" y="379440"/>
            <a:ext cx="302544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Ingres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pic>
        <p:nvPicPr>
          <p:cNvPr id="58" name="1 Gráfico" descr=""/>
          <p:cNvPicPr/>
          <p:nvPr/>
        </p:nvPicPr>
        <p:blipFill>
          <a:blip r:embed="rId2"/>
          <a:stretch/>
        </p:blipFill>
        <p:spPr>
          <a:xfrm>
            <a:off x="920880" y="1206360"/>
            <a:ext cx="6943680" cy="40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6"/>
          <p:cNvSpPr txBox="1"/>
          <p:nvPr/>
        </p:nvSpPr>
        <p:spPr>
          <a:xfrm>
            <a:off x="387360" y="379440"/>
            <a:ext cx="511344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Distribución del presupuesto de gast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546200" y="1143000"/>
          <a:ext cx="5113440" cy="1676520"/>
        </p:xfrm>
        <a:graphic>
          <a:graphicData uri="http://schemas.openxmlformats.org/drawingml/2006/table">
            <a:tbl>
              <a:tblPr/>
              <a:tblGrid>
                <a:gridCol w="2233800"/>
                <a:gridCol w="1942920"/>
                <a:gridCol w="93672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cion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943.9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io de la Deu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9.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56.4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AS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299.5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2 Gráfico" descr=""/>
          <p:cNvPicPr/>
          <p:nvPr/>
        </p:nvPicPr>
        <p:blipFill>
          <a:blip r:embed="rId2"/>
          <a:stretch/>
        </p:blipFill>
        <p:spPr>
          <a:xfrm>
            <a:off x="1779480" y="2992320"/>
            <a:ext cx="465768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2 CuadroTexto"/>
          <p:cNvSpPr/>
          <p:nvPr/>
        </p:nvSpPr>
        <p:spPr>
          <a:xfrm>
            <a:off x="142920" y="6072120"/>
            <a:ext cx="67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1600" spc="-1" strike="noStrike">
                <a:solidFill>
                  <a:srgbClr val="000000"/>
                </a:solidFill>
                <a:latin typeface="Candara"/>
              </a:rPr>
              <a:t>Subdirección de Recursos Físicos, Financieros y Administrativ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316080" y="379440"/>
            <a:ext cx="5113080" cy="47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ff"/>
                  </a:solidFill>
                  <a:miter/>
                </a:ln>
                <a:solidFill>
                  <a:srgbClr val="005000">
                    <a:alpha val="98000"/>
                  </a:srgbClr>
                </a:solidFill>
                <a:latin typeface="Impact"/>
              </a:rPr>
              <a:t>Ejecución del presupuesto de gastos</a:t>
            </a:r>
            <a:endParaRPr b="1" lang="en-US" sz="1800" spc="1" strike="noStrike">
              <a:ln w="25560">
                <a:solidFill>
                  <a:srgbClr val="ffffff"/>
                </a:solidFill>
                <a:miter/>
              </a:ln>
              <a:solidFill>
                <a:srgbClr val="005000">
                  <a:alpha val="98000"/>
                </a:srgbClr>
              </a:solidFill>
              <a:latin typeface="Impact"/>
              <a:ea typeface="Impact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14240" y="1143000"/>
          <a:ext cx="7358040" cy="2055960"/>
        </p:xfrm>
        <a:graphic>
          <a:graphicData uri="http://schemas.openxmlformats.org/drawingml/2006/table">
            <a:tbl>
              <a:tblPr/>
              <a:tblGrid>
                <a:gridCol w="3214800"/>
                <a:gridCol w="2795760"/>
                <a:gridCol w="134748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[miles de $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p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omi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cionami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08.7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5.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io de la Deu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4.3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4.3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r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120.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282.0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GAS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503.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61.3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4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7223040" cy="58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USUARIO</cp:lastModifiedBy>
  <dcterms:modified xsi:type="dcterms:W3CDTF">2010-04-22T22:50:51Z</dcterms:modified>
  <cp:revision>6</cp:revision>
  <dc:subject/>
  <dc:title>Diapositiva 1</dc:title>
</cp:coreProperties>
</file>